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51964"/>
        <c:axId val="24258034"/>
      </c:barChart>
      <c:catAx>
        <c:axId val="16951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8034"/>
        <c:crosses val="autoZero"/>
        <c:auto val="1"/>
        <c:lblAlgn val="ctr"/>
        <c:lblOffset val="100"/>
        <c:noMultiLvlLbl val="0"/>
      </c:catAx>
      <c:valAx>
        <c:axId val="24258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1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433-016E-4783-9137-DD73F35F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576-AAE3-4535-A276-43A91375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A31-3F03-49E8-B833-B4D4ABC7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51F-8609-4486-BEEE-96CDD9C2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038-2E07-44BD-8190-5C61E43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7B8-BF1E-4E91-9931-148779E4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56E-3A0A-440E-8751-15B9AE8A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292-8584-4DDA-BC39-29BF00A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C25-A547-4E80-8B91-F722058E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FFB-909B-4561-98AF-7B9721F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946-F9BA-4433-A328-74635A8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AB4-78F7-4F65-86FB-B9E7BAD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E3405-2F6E-48D6-9088-92D5AACA6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