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0734"/>
        <c:axId val="37517185"/>
      </c:barChart>
      <c:catAx>
        <c:axId val="49907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17185"/>
        <c:crosses val="autoZero"/>
        <c:auto val="1"/>
        <c:lblAlgn val="ctr"/>
        <c:lblOffset val="100"/>
        <c:noMultiLvlLbl val="0"/>
      </c:catAx>
      <c:valAx>
        <c:axId val="37517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07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2FAC-2BAD-4C47-B54A-FA16C48C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FEB-FC73-4F22-8322-105F7FD4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6C3-DDFB-4BB6-8E2F-9B7DBD1A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E84-153A-4EBD-ABEF-C3587FE7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A07-85D0-4F42-B7BC-9CECA06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2C44-7187-4614-8BA5-C6D249EA5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E86-B078-47B7-A54D-341316C8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8DE7-43C7-4562-8F08-5168D4F5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664-308B-47C7-9B82-D46A6B34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D75-FA61-41C8-B9FA-0AEF3E2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0E4-50D9-4BA4-8512-C8AF0F88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C09-926F-4143-BF55-A5F35DAF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63AF3-83BD-48C8-933C-4321A43B3C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