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4295"/>
        <c:axId val="98476567"/>
      </c:barChart>
      <c:catAx>
        <c:axId val="7074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76567"/>
        <c:crosses val="autoZero"/>
        <c:auto val="1"/>
        <c:lblAlgn val="ctr"/>
        <c:lblOffset val="100"/>
        <c:noMultiLvlLbl val="0"/>
      </c:catAx>
      <c:valAx>
        <c:axId val="98476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197-E6DB-41F9-8E43-F5F2AE64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AC0-B2A9-4BFD-9A0B-009D8E20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254-917E-4DAA-9ED8-9CB1CB41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A02-ECBF-4627-AA70-2C04CEE3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8A2-5BA8-4580-AD46-828F67BE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DC8-8FB8-427E-A235-449A45D3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54E-85B3-4BB1-A361-80F8A0D2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617-50BB-4C07-8D3E-3472185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4D2-C7FC-46F3-B99D-3A7D600D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706-C6A0-4655-9BBA-D3954FD0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C4E-6413-4EE9-AF18-B6E3E8F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260-C44F-4663-9E9C-BBB0481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76F5E-D863-47F1-B63A-B2DBFE4C8C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