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14327"/>
        <c:axId val="14750750"/>
      </c:barChart>
      <c:catAx>
        <c:axId val="56614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50750"/>
        <c:crosses val="autoZero"/>
        <c:auto val="1"/>
        <c:lblAlgn val="ctr"/>
        <c:lblOffset val="100"/>
        <c:noMultiLvlLbl val="0"/>
      </c:catAx>
      <c:valAx>
        <c:axId val="14750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14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820-90AD-4AA2-9D57-D28F5ED0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392-1D63-4A4E-BB59-29A45B5B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4E8-2DD3-45EB-87FE-F9E85CBC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CC9-DC7A-45CD-B85C-B0545B60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548-F59C-4A1E-BBC1-C067F3F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510-D2C8-44C3-88D8-65BBF61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4BB-1233-423D-976E-728AF0D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E92-19B9-4283-B01B-1E827C2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A49-C71B-4735-BFF0-9ADBEA5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894-7989-4417-8178-67BE6C3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578-9452-4786-B762-19B4E83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398-F0BF-4C39-B24E-A9E861C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C9E7-3ED8-4AFA-9B2F-0DA4D553B5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