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34228"/>
        <c:axId val="87883005"/>
      </c:barChart>
      <c:catAx>
        <c:axId val="68534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83005"/>
        <c:crosses val="autoZero"/>
        <c:auto val="1"/>
        <c:lblAlgn val="ctr"/>
        <c:lblOffset val="100"/>
        <c:noMultiLvlLbl val="0"/>
      </c:catAx>
      <c:valAx>
        <c:axId val="87883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4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A41-D2B5-4202-8754-739D08CF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997-B363-4E53-A442-9006D49B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5AE-FFF2-4F55-B5A2-71CBE63F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B0E-94DA-4BBA-A0C3-59C90D29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7D6-ACD6-48A9-A1B8-DB2C70C7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646-F1D3-49D9-95C5-86F33536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CAC-FF9C-4B33-B01D-9F2E836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F47-9273-49F4-8585-2BEA53DF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F5B-2FCD-4BF0-B6CC-390E5A68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B3D-DA7B-4B54-8899-90BD733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FD4-FB94-463B-AC24-39A42949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8AA-F9C9-4582-A36A-C04EBD42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7E686-B4B2-49D9-A75E-3922A88B1D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