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00163"/>
        <c:axId val="67444234"/>
      </c:barChart>
      <c:catAx>
        <c:axId val="80300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44234"/>
        <c:crosses val="autoZero"/>
        <c:auto val="1"/>
        <c:lblAlgn val="ctr"/>
        <c:lblOffset val="100"/>
        <c:noMultiLvlLbl val="0"/>
      </c:catAx>
      <c:valAx>
        <c:axId val="67444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00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51A-FF7C-40BF-9FE4-035900EB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49D-1576-4E2C-9566-B44A413B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9BF-A08B-46E1-AA21-E45646AC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F2A-06E8-4AA5-BC42-1F69E0BD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7B2-B633-4566-A2DA-E51EC348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A8C-C5A7-4A66-8A6F-ADA425E8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4E8-3E17-4FB2-9B0B-37F4B324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0DA-D6E1-46E9-8756-AB7A1939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2D0-E068-4B1A-A8A6-1464E307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5C4-92FC-4C3E-96C0-F048DAEC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2AD-AE54-4421-BF1F-5FED4187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143-B183-463A-8A93-03AFCFD4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C6D1C-FDB7-4AFF-8DDE-BD25F0E6C0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