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55387"/>
        <c:axId val="23347908"/>
      </c:barChart>
      <c:catAx>
        <c:axId val="2355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47908"/>
        <c:crosses val="autoZero"/>
        <c:auto val="1"/>
        <c:lblAlgn val="ctr"/>
        <c:lblOffset val="100"/>
        <c:noMultiLvlLbl val="0"/>
      </c:catAx>
      <c:valAx>
        <c:axId val="23347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5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38F-97A7-4853-8AC5-8BBFBA09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80D-777B-4ED5-BBD6-E489A90A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159-A06A-4983-97A4-B80C4655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61B-11FA-45BE-9028-408814F0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152-F6A1-40F3-BDAD-05ADF7A9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D92-9760-465F-8EAF-00C5C5A0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C472-13FB-40FE-92DE-35890CD0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316-E08A-4203-9714-EBB76593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7B2-69C4-4DAC-BDC3-F473AD11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017-3367-46FC-A18A-BAB77FE1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E4D-BE78-4155-8BA0-17F72D3A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DB6-71D1-49BD-B1FF-5B514389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295A1-910E-4E59-8DB9-F997C34901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