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0457"/>
        <c:axId val="22175762"/>
      </c:barChart>
      <c:catAx>
        <c:axId val="1300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75762"/>
        <c:crosses val="autoZero"/>
        <c:auto val="1"/>
        <c:lblAlgn val="ctr"/>
        <c:lblOffset val="100"/>
        <c:noMultiLvlLbl val="0"/>
      </c:catAx>
      <c:valAx>
        <c:axId val="22175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0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603-E81B-4EA5-A111-935FE7BF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836-794F-4D70-9480-BD9D6B07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477-3A4E-4797-A973-CB159F95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E6E-2CC8-425E-9182-69E7B152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258-FB63-481D-8F39-AFE05D0C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C95-C237-4C3E-A88E-C68EF3D1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377-1583-4148-A758-2956B505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55B-88C9-46D7-A40F-7D70441E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C92-D307-4AB3-8575-293C62D7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1E3-752B-4359-9506-5BC03DB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08E-AC49-429A-9929-1F38D10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702-D9A9-4FE4-B164-5D09962F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C8FEE-D2D0-4A5D-9663-6C316FB083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