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96856"/>
        <c:axId val="4658961"/>
      </c:barChart>
      <c:catAx>
        <c:axId val="62696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961"/>
        <c:crosses val="autoZero"/>
        <c:auto val="1"/>
        <c:lblAlgn val="ctr"/>
        <c:lblOffset val="100"/>
        <c:noMultiLvlLbl val="0"/>
      </c:catAx>
      <c:valAx>
        <c:axId val="4658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6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D79-96B4-4043-8D05-2023C79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CB8-283F-47C8-82E1-2E62D52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C04-5A39-40B0-95A2-E149F737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CA5-2E0A-4902-8697-6C544049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C98-7564-4B2D-B592-29B5AB5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F7A-02DC-46DB-AB51-474439E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458-E056-4ECD-8D38-64E6AF6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0AE-6249-4BD6-859A-D6C949E9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3BD-D02D-440F-97A3-6F4BBE7A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83D-07AB-4676-B17A-DABDDFA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FDD-2847-46A9-91F6-BDE7E1F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85D-D772-42DC-8557-589B381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4DD26-33F2-4802-B8BB-37EED8C4D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