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310804"/>
        <c:axId val="34700990"/>
      </c:barChart>
      <c:catAx>
        <c:axId val="173108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700990"/>
        <c:crosses val="autoZero"/>
        <c:auto val="1"/>
        <c:lblAlgn val="ctr"/>
        <c:lblOffset val="100"/>
        <c:noMultiLvlLbl val="0"/>
      </c:catAx>
      <c:valAx>
        <c:axId val="347009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3108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786B-9A99-4B2E-9FB7-CC9F9F9FD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6085-D3FE-4DA3-ACEC-31EE2BC18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A5BD-9080-4F0C-9605-A16398BB4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661F-4C2D-4289-8012-6B149340E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E893-D344-4788-9A82-D1008BF14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4C6A-E741-478F-B958-274564F13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C924-AFE4-41A3-98CA-093B82739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D764-83D5-4BD9-BC8A-434F720A4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7D68-874E-4E0C-A8F6-61D2A015B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CE4F-3D3E-496A-A69A-10990673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56A7-4439-4981-80A1-24FD0685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A5E3-9717-4A91-A9F8-B692ECE5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824EAA-16D3-4DDE-91AD-FC9FE0081D4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