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56501"/>
        <c:axId val="54621133"/>
      </c:barChart>
      <c:catAx>
        <c:axId val="60256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1133"/>
        <c:crosses val="autoZero"/>
        <c:auto val="1"/>
        <c:lblAlgn val="ctr"/>
        <c:lblOffset val="100"/>
        <c:noMultiLvlLbl val="0"/>
      </c:catAx>
      <c:valAx>
        <c:axId val="54621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6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643-2E7C-4914-A692-A5FEAA45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FF8-DCC7-46F9-B9AB-3EF8B26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8BD-0406-45B6-88E0-68ED4D4A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6C7-F043-41B5-BF80-5A494B6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6C4-B069-406E-A8C6-85CB763F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9DD-C141-4108-A3FD-4D2291B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326-98C0-46CD-8F27-BAD3FD2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7B2-EB32-4E1E-B929-B09FDE0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208-D8F5-4033-A78C-DAC840B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CB5-D42F-4701-A38D-EC0D96F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5F-90E1-4FF5-A35B-728A6FE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3CA-38E5-493B-8AAC-C66E35D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7727E-1624-419C-9A78-5174F54582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