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21748"/>
        <c:axId val="61572557"/>
      </c:barChart>
      <c:catAx>
        <c:axId val="1217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572557"/>
        <c:crosses val="autoZero"/>
        <c:auto val="1"/>
        <c:lblAlgn val="ctr"/>
        <c:lblOffset val="100"/>
        <c:noMultiLvlLbl val="0"/>
      </c:catAx>
      <c:valAx>
        <c:axId val="6157255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217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F5537-5B60-489A-812B-E51723450F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CFF30-79B9-4C53-B1F5-211F91E57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6790-8BC5-486B-91B8-2DF64A177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5B8AD-3608-40FD-829E-D10FE46DB3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554E-1D95-4ADA-87C0-5F391693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5464-F6CA-473D-B19D-DDE7A0905D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68E27-9330-4BFA-B2A5-BDF6B5C3A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6EC4-06D2-4A87-BB14-ABF5BCDF6E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639C-7D58-4AE8-BB07-DC065DF9A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BE006-94A1-4BB1-9B97-33FC4353C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FD820-2F8A-4AF8-80C2-98DAB7F0D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D9866-5C6D-4E03-80CE-C93F5C98F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46F63F-1AFF-4A96-958B-ECF2F139F25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