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61113"/>
        <c:axId val="74457564"/>
      </c:barChart>
      <c:catAx>
        <c:axId val="25261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57564"/>
        <c:crosses val="autoZero"/>
        <c:auto val="1"/>
        <c:lblAlgn val="ctr"/>
        <c:lblOffset val="100"/>
        <c:noMultiLvlLbl val="0"/>
      </c:catAx>
      <c:valAx>
        <c:axId val="74457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1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501-0082-4446-BFD1-3CC5BD63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7A9-0ED2-476F-B1BF-D9887EC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1C2-5D1B-48E5-8B09-1B2AEEC8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388-B799-49D9-B9B0-233A6B4A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350-5654-47AE-8719-A3E60603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F06-3E36-4577-9468-388063D4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00E-2C73-47F3-9B3B-D751E1D4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D46-3C26-4A1E-8C72-9353667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0C9-5DFD-42AC-93FC-ECC1BB7C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BEA-E894-4E82-94B4-6C436AF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69B-E50F-420B-B7FA-A85CBA7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84A-9962-47A2-A791-B10B803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3C28C-97E9-4B0B-9726-D68B3BDD8E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