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31359"/>
        <c:axId val="88224494"/>
      </c:barChart>
      <c:catAx>
        <c:axId val="49831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24494"/>
        <c:crosses val="autoZero"/>
        <c:auto val="1"/>
        <c:lblAlgn val="ctr"/>
        <c:lblOffset val="100"/>
        <c:noMultiLvlLbl val="0"/>
      </c:catAx>
      <c:valAx>
        <c:axId val="88224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31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E33-8F54-42FE-8A9E-E6809C23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E01-0F78-40D8-99BD-D4E7A0AC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794-AE87-4797-B0A9-781D3FF1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919-7B5D-43CF-9C3C-3E1867DC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F06-2F8C-47E7-924E-F6974EA1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880A-AA8F-46F0-958E-F111A70F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B90-2A82-47A5-BF1A-D0111F50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CF9-7DB8-4BF3-93F0-154C1520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007-E2A9-41BF-8BC4-42D3DFAD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902-03EC-4B31-BDD9-F16B5D04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7F3-D9F4-4916-BCA1-74422B4B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305-3E3D-45AB-884A-7E75E8D4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A68DB-806D-4C40-B36F-E6CC98BEFC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