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48119"/>
        <c:axId val="40965508"/>
      </c:barChart>
      <c:catAx>
        <c:axId val="51348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65508"/>
        <c:crosses val="autoZero"/>
        <c:auto val="1"/>
        <c:lblAlgn val="ctr"/>
        <c:lblOffset val="100"/>
        <c:noMultiLvlLbl val="0"/>
      </c:catAx>
      <c:valAx>
        <c:axId val="40965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48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72C-407E-4FCD-9D18-5CB95A0C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332-7B2A-48B5-A556-F593024E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0DF-44CC-4A5B-9FA6-174DCA22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BAB-903E-4001-88CF-D210F921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C9F-D666-4DC4-8B37-00DCA64C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5B8-3D0F-4242-B340-45EB8D3C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32C-3886-4D08-888F-2AF55AA5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2E9-59A1-43F4-9405-355D81E3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C6D-7E29-43D2-9BEE-637E640C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B80-849C-4B2A-8250-C23E81C7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E5D-4218-47CF-A922-D7733E4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F50-3620-4C2A-B0D2-B94CF54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B211A-18A3-40C9-A010-3C4F8E79BA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